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9DE-D09C-4E44-AC64-09A74FA6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0031-031A-4F2F-B400-8B4CB0E80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CFB2-4419-49E7-8D08-8B47CF716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62D5-0CCA-48F9-A656-72A83245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F18-3AF9-4CD6-AFA8-18988C207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A3F7-1E86-4FC8-9FCD-8B31D222A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AF4-631A-4017-94C8-C35A974C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333-B28D-4FC6-8F8A-77E8252C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A5F-E61D-4C4E-811C-65261450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2AC-D737-4A07-ABD8-A849EE34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F60-7790-4F87-948D-50868ECB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C0C-4EE9-42E2-AE4A-B6A75D4A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C49-E197-44CE-990D-FD7D1FD0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B3C-ED16-49CD-840A-1225DCF0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36B-0207-416A-B704-3E2B670D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984-8F94-40A4-8544-6906B4DF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47E-5CCA-4757-BFC7-1C7E0806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177-66B1-49C8-A65D-C83555AA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EE6-2A2F-47D4-B02D-985E73C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7D31-1E63-46BE-B173-7139573EE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harge It 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9F78-B019-4A3A-928B-F11C2111542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federalreserve.gov/creditcardcalculator/" TargetMode="External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76320" y="83808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g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28600" y="218124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Righ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and Maria need another car. They have some money to put down on a new car, but they still need to borrow about $10,000 to purchas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Buying a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57200" y="396252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they do not (or cannot) pay back the loan, what might the lender 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a revolving line of credit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dollar li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nimum monthly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.g., $15 for a $600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harge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you to pay the entire balance every 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eb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ied to a checking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6" descr="Credit card"/>
          <p:cNvPicPr/>
          <p:nvPr/>
        </p:nvPicPr>
        <p:blipFill>
          <a:blip r:embed="rId1"/>
          <a:stretch/>
        </p:blipFill>
        <p:spPr>
          <a:xfrm>
            <a:off x="6705720" y="1905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a Credit Ca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C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red value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d and unsecured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ld and platinum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war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disclosures before you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at fees/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consumer prot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precautions to protect yourself from fraud or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federal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highlight rates, fees, other key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mple interest rate section of disclosu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uth in Lending Disclosure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shopping for credit cards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ercentage rates (APR)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enalty APR, and when it a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es, such as any annual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race period, if there is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computa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622920" y="2057400"/>
            <a:ext cx="1757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Rate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 on a yearly basis (interest + fe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a low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annual fees and other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long the introductory rates will last and whether the new rate will be fixed or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ing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Bal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on money you owe for charges you made in the past (existing balance) generally cannot be increased unles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told about the increase when you open the account and the initial rate lasts at le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re is a change in an index-based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n’t satisfy a “workout arrangemen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 not make the required minimum payment within 60 days of due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ew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Trans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that applies to new transactions generally cannot increase for a year from the date the card was issue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cept if you have a variable rate card and the index increases or promotional rate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or must notify you 45 day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cancel the card before the changes take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nalty AP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enalty AP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a permanent rate increase if you do not pay your credit card bill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be double the regular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details in Truth in Lending disclo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505320" y="403848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t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ver-the-limi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-limit increas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ign transaction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ollar sign"/>
          <p:cNvPicPr/>
          <p:nvPr/>
        </p:nvPicPr>
        <p:blipFill>
          <a:blip r:embed="rId1"/>
          <a:stretch/>
        </p:blipFill>
        <p:spPr>
          <a:xfrm>
            <a:off x="5410080" y="1371600"/>
            <a:ext cx="2202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oid finance charges by paying your balance in full, or making the minimum payment, on or before the due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race Peri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0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age Daily Balance is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mon method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x APR x Days in Billing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ys in Calenda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  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alance Computation Meth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stomer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via telephone and Internet may allow you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ss account information, such as balance and recent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bill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pdate personal information such as your add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Key I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e aware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ws that protect you against billing mistakes and unauthorized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dditional protections that credit card companies may provide (e.g., an extended warranty period on certain purch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time to fully understand the costs, benefits, and true coverage of “credit protection” or “debt suspension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maximum amount of credit the credit card company grants you based on factors, such as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5742000" cy="109872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5907240" cy="11034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157560" cy="1098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re to Apply for a Credit C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Where do you think you would go to apply for a credit car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“opt out” of receiving mailed credit car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the phone number on the offers of cr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ell phone"/>
          <p:cNvPicPr/>
          <p:nvPr/>
        </p:nvPicPr>
        <p:blipFill>
          <a:blip r:embed="rId2"/>
          <a:stretch/>
        </p:blipFill>
        <p:spPr>
          <a:xfrm>
            <a:off x="533520" y="4038480"/>
            <a:ext cx="2379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cred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your own assets, income, ability to pay, and credit hist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responsible for paying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Joint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assets, income, ability to pay, and credit history of both people who a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th applicants are responsible for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vs. Joint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Consumers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under age 21</a:t>
            </a: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 mu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Have a co-signer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Prove the ability to make th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If you are a parent, be prepared for a request to co-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vide accurate information on a credit appl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Giving false information is a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plication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ty:</a:t>
            </a:r>
            <a:r>
              <a:rPr b="1" lang="en-U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ollater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e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credit is impor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factors creditors look for when making credit deci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purpose of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ty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have you been in your job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make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your monthly expens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have in your checking and savings accounts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own a hous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investments or other assets (e.g., a car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harac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had credit in the past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accounts do you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e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d for bankrupt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any outstanding judg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property repossessed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closed up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de late pay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6705720" y="2514600"/>
            <a:ext cx="1876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assets to secure the loan beyond your capacity to pay it off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e have discussed what information creditors look for in order to decide whether to give you a credit card, but where do you think they might find this infor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Creditors Loo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redit report tells credit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you 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any collection actions, bankruptcies, judgments, etc. against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report inquiries have been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9440" y="156996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et Cathy. S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s 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ever had a credit card or a lo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o credit history except for an inquiry by her landlord when she rented her apartment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will a creditor decide if Cathy is good credit ris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375240" y="1828800"/>
            <a:ext cx="20829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No History Is No Mys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ing Agen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i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ree Annual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6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wo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Fair Isaac (FICO)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Sc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if you are ready to apply for a cred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credit card is best suited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how to use a credit card responsib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steps to take when a credit card is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Request Is Deni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nial notice, or adverse action notice, lists reasons for credit den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ard companies must give you reasons why your credit was deni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the credit bureau within 60 days of receiving the denial for a free copy of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any inaccuracy in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Statement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360" y="118908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367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ederalreserve.gov/creditcardcalculator/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ounseling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Interest Rate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tions or Account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harge Calc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tatement and envelope"/>
          <p:cNvPicPr/>
          <p:nvPr/>
        </p:nvPicPr>
        <p:blipFill>
          <a:blip r:embed="rId2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2400" y="129528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credit card receipts to compare with monthly statements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eck your monthly statement for mist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mistakes right 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Good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98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ich of the following is a good reason to pay more than the minimum payment due on your credit card bi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look good on your credit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will be able to spend it again, in higher amou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 credit card company will increase your limit fa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pay if off quicker and save on interest char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09480" y="1143000"/>
          <a:ext cx="7925040" cy="3962520"/>
        </p:xfrm>
        <a:graphic>
          <a:graphicData uri="http://schemas.openxmlformats.org/drawingml/2006/table">
            <a:tbl>
              <a:tblPr/>
              <a:tblGrid>
                <a:gridCol w="1600200"/>
                <a:gridCol w="1121040"/>
                <a:gridCol w="1241280"/>
                <a:gridCol w="1320840"/>
                <a:gridCol w="1320840"/>
                <a:gridCol w="132084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ni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 of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ts of Exceeding the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ginal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thly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of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um Payment (M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Houston, We Might Have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ether the people are using their cards responsi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what could happen if each person continues to use their credit card as descri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Card is Lost or Stole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fy your credit card company immediate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276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characteristic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ards that are similar to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different type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shop for the best credit card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apply for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a credit card responsi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pay your credit card b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credit car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Cred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276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sk a financial professional what “credit” is, which of these would this person choose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tion for a job well-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ng, scrolling text at the end of a mov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bility to borrow mone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reement to borrow money on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 or Guarante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curity, or asset, you pledge to the lender in case you cannot repay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Def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mportance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87440" indent="-48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do you think credit is import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be useful in times of emer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more convenient and safer than carrying large amounts of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a large purchase, such as a car or house, and pay for i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affect your ability to obtain a job, buy or rent a house, or obt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9440" y="12193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ing good credit mea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ke your loan payments o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be easier to borrow money in the fu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problems using credit responsibly, it will be harder to borrow money in the fu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6477120" y="1600200"/>
            <a:ext cx="1828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ood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37:42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